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6652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8A6B-6151-4412-8966-1A243BA1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project that was relevant to 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inals are approaching and students are getting juiced up with caffeine to help with late-nighters stud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 that would be interesting to analyze profit generated from soda machines at S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ocess, learned logistics about filling machines -- what, when and by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hered lot of info from conversations with Il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’s responsible for filling machines at S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see him in the hallway, don’t forget to thank him for good job that he’s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network across all buildings associated with NYU includes 180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l filled by one person, Ilya, who spends close to 100% of his time making sure that NYU machines are filled and properly func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lculated sales revenue associated with NYU, which came to $2.1 million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 estimate, that will change based on more data that can be gathered on consumption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than 50% during peak periods such as now (before and during fin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ower than 50% during off-peak periods (such as winter and summer break), when students aren’t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 we could come to more definitive recommendation by only focusing on machines at S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 of one on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and one o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’s also one on 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, and we thought it wouldn’t be interesting to take about one that served bottles instead of 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chine has capacity of 475 cans of soda, and they’re all Coke-affiliate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nsumption of Coke and Diet Coke, followed by Dr. Pepper and Sprite, and much less consumption of Ginger Ale, Fanta and Nestea L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chine has 8 slots for drinks, 7 of them are single feeders and 1 is double feeder, than can roughly hold twice number of 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chine is filled once a week on Monday mornings, and based on our conversations with our good friend Ilya, by Thursday afternoon, all of Diet Coke is sold out, which I know can be a big problem for all of you die-hard Diet Coke junkies, especially during critical periods like this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E255-2FC7-42BF-B4BE-8255DBB6B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3FE1-849B-491A-8D60-3342BB309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5867-22C9-451C-9891-B1DC79D82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6216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608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6216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608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67B0-6666-4A49-8F26-3E6B165AB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342864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945D-4C80-4A47-80D3-87884C87E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6216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608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6216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608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7071-4A6E-4227-A09E-0061A5857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07D4-FB0A-44C2-8896-2E5539816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79E2-23DE-40A3-AC31-A6BF0B12D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42864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8268-B9A0-426F-869D-A91325E11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C504-13F4-4927-BB5E-3D40A88AA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6537-FB4A-421C-8473-B8614593C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71BE-BA71-429D-B44B-BD2364A19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55272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723920" y="6533640"/>
            <a:ext cx="21337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870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1643-1097-4A2E-A914-B07B2049963B}" type="slidenum">
              <a:rPr b="1" lang="en-US" sz="2400" spc="-1" strike="noStrike">
                <a:solidFill>
                  <a:srgbClr val="ff870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6800"/>
            <a:ext cx="9144000" cy="0"/>
          </a:xfrm>
          <a:prstGeom prst="line">
            <a:avLst/>
          </a:prstGeom>
          <a:ln w="28440">
            <a:solidFill>
              <a:srgbClr val="003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772400" y="4680"/>
            <a:ext cx="1406520" cy="75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3240">
            <a:solidFill>
              <a:srgbClr val="003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0" cy="766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095960" y="6488280"/>
            <a:ext cx="2048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06"/>
                </a:solidFill>
                <a:latin typeface="Comic Sans MS"/>
              </a:rPr>
              <a:t>Group 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5560" y="763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768920" y="2119320"/>
            <a:ext cx="4376520" cy="255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70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1240" y="3443400"/>
            <a:ext cx="538812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NYU Soda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706"/>
                </a:solidFill>
                <a:latin typeface="Arial"/>
              </a:rPr>
              <a:t>May 2004  |  New York</a:t>
            </a: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3800" y="5043600"/>
            <a:ext cx="2184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706"/>
                </a:solidFill>
                <a:latin typeface="Comic Sans MS"/>
              </a:rPr>
              <a:t>Group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59440" y="5499000"/>
            <a:ext cx="289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Adam Schr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Daniel Gittsov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Nirav Jhav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Tomer Bark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062000" y="5249880"/>
            <a:ext cx="21034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0560" y="2600280"/>
            <a:ext cx="7246800" cy="2833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5880" y="1133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Objective Function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1 Profit X Binary + Option 2 Profit X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CE72-88EE-4982-A637-FD450B8A9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ning Sol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1480" y="10551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Standard Evolutionary solver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 should be integers between 1 and 7, representing the different dr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 Binary variables equals one (weekly or biweek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08160" y="3154320"/>
            <a:ext cx="4795920" cy="258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36AD-E18C-47D6-A7A9-06ABE40C55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13170" r="0" b="0"/>
          <a:stretch/>
        </p:blipFill>
        <p:spPr>
          <a:xfrm>
            <a:off x="2530440" y="2975040"/>
            <a:ext cx="3878280" cy="35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21120" y="3173400"/>
            <a:ext cx="2063880" cy="38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66600"/>
            <a:ext cx="822960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Using our model, weekly profits are growing 47.8%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$598 to $884 a week for the two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On a yearly basis profits across all NYU machines can grow in approximately $1.3 Million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$884 - $598) X 52 X 90 = $1,338,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D614-3CA8-47BF-86F2-2F420F7E1F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ther Analy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2120" y="950760"/>
            <a:ext cx="79488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Using Solver table we analyzed the results for demand shifts 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be the optimal drink mix if demand will shrink by X% (i.e sum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be the optimal drink mix if demand will grow by Y% (i.e finals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640" y="3351240"/>
            <a:ext cx="3305160" cy="172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83200" y="3019320"/>
            <a:ext cx="3024000" cy="33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FE85-BB73-440C-8313-F9BCD6A59F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960" y="993600"/>
            <a:ext cx="822960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Based on results generated by Solver Table, when demand shrinks by 25% or more profit will be maximized by refilling the machines only once a week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640" y="3052800"/>
            <a:ext cx="7952040" cy="30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88920" y="3909960"/>
            <a:ext cx="486000" cy="55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D38F-A3C6-4B2A-AA7C-D28C1A8FF7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 – Rule of Thum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893520"/>
            <a:ext cx="822960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55"/>
                </a:solidFill>
                <a:latin typeface="Arial"/>
              </a:rPr>
              <a:t>When demand for drinks increases, maximize profits by increasing the quantity of Diet Cokes</a:t>
            </a:r>
            <a:endParaRPr b="1" lang="en-US" sz="20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55"/>
                </a:solidFill>
                <a:latin typeface="Arial"/>
              </a:rPr>
              <a:t>When total demand decreases, maximize profits by reducing the quantity of Diet Cokes</a:t>
            </a:r>
            <a:endParaRPr b="1" lang="en-US" sz="20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modate for a switch from biweekly to weekly ref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95480" y="2698920"/>
            <a:ext cx="5180040" cy="3235320"/>
            <a:chOff x="1995480" y="2698920"/>
            <a:chExt cx="5180040" cy="323532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995480" y="2698920"/>
              <a:ext cx="518004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235040" y="3880440"/>
              <a:ext cx="329400" cy="992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06360" y="3690000"/>
              <a:ext cx="329760" cy="1308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712960" y="5987880"/>
            <a:ext cx="10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nce a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70160" y="5513040"/>
            <a:ext cx="88920" cy="560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47C2-669A-4C0D-BAB4-F7B0DAC8B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574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The described model could be used as a practical tool to increase profits from the NYU soda machines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And to allow Diet Coke junkies to keep getting their fix 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7549-644C-4413-A785-349E8D2E3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706"/>
                </a:solidFill>
                <a:latin typeface="Arial"/>
              </a:rPr>
              <a:t>April 2004  |  New York</a:t>
            </a: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3800" y="5043600"/>
            <a:ext cx="2184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706"/>
                </a:solidFill>
                <a:latin typeface="Comic Sans MS"/>
              </a:rPr>
              <a:t>Group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59440" y="5499000"/>
            <a:ext cx="289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Adam Schr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Daniel Gittsov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Nirav Jha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Tomer Bark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YU 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oda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540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Times New Roman"/>
              </a:rPr>
              <a:t>Soda machine network within NYU - total of 180 machin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Times New Roman"/>
              </a:rPr>
              <a:t>Approximate annual sales revenue -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$2.1 Million</a:t>
            </a: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80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0 cans in each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uming consumption of 50% of inventory every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80 X 500 X 50% X 52 X $0.9  = $2,106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599240" y="3946680"/>
            <a:ext cx="121284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5FE7-A271-4A1A-9276-78067BB78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rn Soda Machin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Our analysis was focused on the Stern Soda Machin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o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o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Each machine contains 475 cans of soda with a variety of drinks (soda only):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t C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nger 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a L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4706-F608-476E-94A2-25CE72C509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rn Soda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Each machine has 8 different slots of drinks to choose from: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Regular – capacity of 55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Double Feeder – capacity of 90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The machines are filled once a week on Monday morning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By Thursday afternoon there is no more Diet Coke….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822920"/>
            <a:ext cx="571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S  O  L  D     O  U  T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 ! !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>
            <a:lum contrast="6000"/>
          </a:blip>
          <a:srcRect l="27320" t="0" r="29357" b="0"/>
          <a:stretch/>
        </p:blipFill>
        <p:spPr>
          <a:xfrm>
            <a:off x="1003320" y="4410000"/>
            <a:ext cx="911160" cy="15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85A9-8F72-4E97-8875-718F0F5A63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Define the drink mix for each machine and the frequency of refilling it in order to maximize profit 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opefully reduce incidents of “sold out” Diet Cok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The solution should take the following into consideration: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di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refilling th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and cost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786A-2657-42C6-A16D-CB61B8763D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9920"/>
            <a:ext cx="8229600" cy="52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Decision Variabl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Slots (8 for each mach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Binary variables to determine weekly or biweekly re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Objective Function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weekly profit from the 2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profit 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{Quantity Purchased x (Price – Cost)} – Refill Cos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unsatisfied demand will be shifted to other products based on the divers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Variables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6 slots receives an ID ranges from 1 to 7 representing the selected dr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E5DE-3014-44C6-BAE8-9C1AB660A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61920" y="2022480"/>
            <a:ext cx="7081920" cy="4048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0551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Decision Variabl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D105-E56E-4846-93BD-417DE1E089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1639800"/>
            <a:ext cx="8640720" cy="3811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6680" y="4098960"/>
            <a:ext cx="5781600" cy="352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410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Daily Demand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0120" y="559260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Demand Divers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E369-1749-4FAB-80C7-599274A44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08160" y="1135080"/>
            <a:ext cx="5756400" cy="4979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880" y="2873520"/>
            <a:ext cx="172692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a55"/>
                </a:solidFill>
                <a:latin typeface="Arial"/>
                <a:ea typeface="Arial"/>
              </a:rPr>
              <a:t>Two options to calculate weekly profit based on the  frequency of refilling the machines</a:t>
            </a:r>
            <a:endParaRPr b="1" lang="en-US" sz="16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98560" y="2328840"/>
            <a:ext cx="107460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103720"/>
            <a:ext cx="1033560" cy="44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73920" y="1957320"/>
            <a:ext cx="12700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a55"/>
                </a:solidFill>
                <a:latin typeface="Arial"/>
                <a:ea typeface="Arial"/>
              </a:rPr>
              <a:t>Binary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D991-AC17-476B-B849-742CB3F38D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4:11:52Z</dcterms:created>
  <dc:creator>ES</dc:creator>
  <dc:description/>
  <dc:language>en-US</dc:language>
  <cp:lastModifiedBy>Nirav Jhaveri</cp:lastModifiedBy>
  <dcterms:modified xsi:type="dcterms:W3CDTF">2004-05-03T12:54:41Z</dcterms:modified>
  <cp:revision>96</cp:revision>
  <dc:subject/>
  <dc:title>Slide 1</dc:title>
</cp:coreProperties>
</file>